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FD5-4861-4799-BE1E-54625CB4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9D7-420F-4886-87B2-43E18FEE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AF7-B07E-4295-99C7-3AF18B05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126-C1D0-4D83-85A2-54CBE454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00A-FD56-4208-A065-89A271B4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520-E36D-46BB-8006-4FBA2C65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F7D-FC44-4732-B907-ACA6041D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3DE-4D6B-4736-A357-DBC36D69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3A6-9434-49B4-A6BC-FD6CAD04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52E-5F98-4E68-8436-C4E1D74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46F-DE31-4B8F-939E-62B52041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A8C-DD48-450A-94F2-D3F87CBF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553F-066B-4CAA-BEBA-748B7078C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e bilan d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29200" y="6094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3/1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37160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Pierre, Chef du service courrier et M. Antoine, Organisateu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ibuteurs principaux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: Secrétaires de service et experts (informatique, commercial, juridiq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appel des objectif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er la qualité des réponses aux courriers des clients (fond et déla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arantir l’exhaustivité d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sposer d’une traçabilité dans la rédaction d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er les lettres et l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75248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sultats attei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ise sous contrôle du processus (délais, exhaustivité, traçabilité, mémorisation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ise en place d’une bibliothèque permettant des réponses de meilleure qualité (fond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10552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servations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stimation un peu juste de la durée nécessaire pour rédiger les nombreuses lettres et paragraphes typ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écessité de formation des secrétaires à l’utilisation d’une base de données +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42900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car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ploiement de la solution sur l’ensemble des secrétariats du siège terminée fin septembre 2009 au lieu de fin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858000"/>
            <a:ext cx="6858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tour d’expérienc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e pas sous-estimer le temps nécessaire pour concevoir et valider des documents de travail en group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e pas sous-estimer le nécessaire accompagnement des personnes dans le cas de mise en œuvre de technologies nouvelles (base de donnée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09:39:21Z</dcterms:modified>
  <cp:revision>14</cp:revision>
  <dc:subject/>
  <dc:title>Présentation PowerPoint</dc:title>
</cp:coreProperties>
</file>